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mmburger%5B1%5D.wav" ContentType="audio/x-wav"/>
  <Override PartName="/ppt/media/applause.wav" ContentType="audio/x-wav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802-A308-4302-8296-81F99C55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6A4-D30E-435D-A7C0-8B23AA41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0D8-4629-4826-8719-68C9DF0F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17D-213F-45FA-B336-DD60B472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A648-2459-4336-BE52-691F3B6F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BA6F-5F46-4F86-8646-9263AED5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BE1B-E561-45C7-B58E-49AFC968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373B-A7EE-488B-A43E-890CDA22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4ACF-C1B9-4C42-B8B3-C572AE57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7B1E-AD13-43B2-B301-60391758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C759-AA44-4433-9AD2-6BBCF395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20F-77DA-4F6D-8E6E-F64428C1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F643-1C8E-4ED9-94E9-42478501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53A3-78F7-417B-AE5D-855EC139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EF08-F5D3-41E0-9F57-2A65BA83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34AF-9B49-4DA7-A323-B196AD24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6579-31E0-4EFF-950D-3FAD6FEC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381-3DCD-4370-B7D8-734F6A10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451-93E0-4994-84CD-16C92A89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91F-DC5D-47F8-91BE-7D8CC917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BD0-BE48-41D9-8678-3D8860B1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55C-E9E6-4DF7-892F-8E48FE55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F58-3955-4D16-9224-D81B23F6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EB7-1BF3-4FD4-94E7-C09522A5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EB4D-7265-4889-A01D-414AB5929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4F94-BF83-4F64-A87F-EBAE89872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mmburger%5B1%5D.wav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76320" y="533520"/>
            <a:ext cx="551520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How To Do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An A. P. Euro.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419112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nda"/>
              </a:rPr>
              <a:t>D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038480" y="419112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nda"/>
              </a:rPr>
              <a:t>B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24480" y="419112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nda"/>
              </a:rPr>
              <a:t>Q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38280" y="6010200"/>
            <a:ext cx="42674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e02b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nda"/>
              </a:rPr>
              <a:t>Thanks to: Ms. Susan M. Pojer</a:t>
            </a:r>
            <a:endParaRPr b="0" lang="en-US" sz="2400" spc="1" strike="noStrike">
              <a:ln w="19080">
                <a:solidFill>
                  <a:srgbClr val="009900"/>
                </a:solidFill>
                <a:miter/>
              </a:ln>
              <a:solidFill>
                <a:srgbClr val="e02b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143000" y="3049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371600"/>
            <a:ext cx="85345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99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Grouping of Docs. by Auth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you show an awareness that certain types of authors, simply by their authorship, will express similar views when you group docs. by type of auth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130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02b00"/>
                </a:solidFill>
                <a:uFillTx/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648320"/>
            <a:ext cx="76964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As northern Renaissance humanists,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Erasmus, Sir Thomas More, and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Cervantes all poked fun at the foibles and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scandals of late medieval societ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66680" y="457200"/>
            <a:ext cx="67820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How to Reference a Document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in Your Essay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286000"/>
            <a:ext cx="8382240" cy="40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2b00"/>
                </a:solidFill>
                <a:latin typeface="Comic Sans MS"/>
              </a:rPr>
              <a:t>Baldassare Castiglione, in </a:t>
            </a:r>
            <a:r>
              <a:rPr b="1" i="1" lang="en-US" sz="2800" spc="-1" strike="noStrike">
                <a:solidFill>
                  <a:srgbClr val="e02b00"/>
                </a:solidFill>
                <a:latin typeface="Comic Sans MS"/>
              </a:rPr>
              <a:t>The Handbook of the Courtier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, said:  “………………….”</a:t>
            </a:r>
            <a:br>
              <a:rPr sz="2800"/>
            </a:b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2b00"/>
                </a:solidFill>
                <a:latin typeface="Comic Sans MS"/>
              </a:rPr>
              <a:t>In document 5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, Erasmus of Rotterdam, a northern Christian humanist, agreed with…..</a:t>
            </a:r>
            <a:br>
              <a:rPr sz="2800"/>
            </a:b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The 19c historian, Jacob Burkhardt, felt that …………………. </a:t>
            </a:r>
            <a:r>
              <a:rPr b="1" lang="en-US" sz="2800" spc="-1" strike="noStrike">
                <a:solidFill>
                  <a:srgbClr val="e02b00"/>
                </a:solidFill>
                <a:latin typeface="Comic Sans MS"/>
              </a:rPr>
              <a:t>(Doc.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3520" y="304920"/>
            <a:ext cx="807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The Concluding Paragraph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3581280"/>
            <a:ext cx="3429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The “Bottom Bun” of your es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It holds it all togeth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3-5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1523880"/>
            <a:ext cx="51055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Start with a “concluding phras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Restate your thesis statement a bit differ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Put your essay answer in a larger historical persp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505320" cy="1062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495680" y="4662360"/>
            <a:ext cx="464832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e02b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nd of some trend/movement/ide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e02b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eginning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e02b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nd of one &amp; beginning of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5800" y="3049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Put It All Together And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2743200" y="1595520"/>
            <a:ext cx="3352680" cy="221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666880" y="3629160"/>
            <a:ext cx="3810240" cy="2009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895480" y="5491080"/>
            <a:ext cx="350532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143000" y="45720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Ummm...Burger!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219320" y="5715000"/>
            <a:ext cx="6705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I Mean, "Dazzling" Essay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8080" y="457200"/>
            <a:ext cx="7543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Now,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"Dazzle" Me 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With Your Brilliance !!!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2362320" cy="20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43000" y="457200"/>
            <a:ext cx="7010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A "Dazzling" D. B. Q. 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Is Like a Tasty Hamburger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855" t="3329" r="5716" b="4203"/>
          <a:stretch/>
        </p:blipFill>
        <p:spPr>
          <a:xfrm>
            <a:off x="2514600" y="2362320"/>
            <a:ext cx="41385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457200"/>
            <a:ext cx="807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The Introductory Paragraph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380880" y="1828800"/>
            <a:ext cx="3353040" cy="221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4191120"/>
            <a:ext cx="3429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The “Top Bun” of your essay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4-6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2362320"/>
            <a:ext cx="4800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stablish 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Comic Sans MS"/>
              </a:rPr>
              <a:t>TIME &amp; PLACE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reate a clear, 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Comic Sans MS"/>
              </a:rPr>
              <a:t>THESIS</a:t>
            </a:r>
            <a:br>
              <a:rPr sz="2400"/>
            </a:br>
            <a:r>
              <a:rPr b="1" lang="en-US" sz="2400" spc="-1" strike="noStrike" u="sng">
                <a:solidFill>
                  <a:srgbClr val="ff9933"/>
                </a:solidFill>
                <a:uFillTx/>
                <a:latin typeface="Comic Sans MS"/>
              </a:rPr>
              <a:t>STATEMENT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Allude to the 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Comic Sans MS"/>
              </a:rPr>
              <a:t>SUB-TOPICS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or categories you will discuss to support your thesis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" dur="1" fill="hold"/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3520" y="457200"/>
            <a:ext cx="807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The "Meat" Paragraph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19112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The “tasty” part of your essay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7-10 sentences+ per para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523880"/>
            <a:ext cx="48006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Identify your sub-topic or category in the first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Include the documents that are relevant to support the ideas in the para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Be sure to indicate Point-of-View (POV) / Bias. </a:t>
            </a:r>
            <a:r>
              <a:rPr b="1" lang="en-US" sz="2400" spc="-1" strike="noStrike">
                <a:solidFill>
                  <a:srgbClr val="e02b00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Bring in supportive outsid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809880" cy="2009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67360" y="609588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2b00"/>
                </a:solidFill>
                <a:latin typeface="Comic Sans MS"/>
              </a:rPr>
              <a:t>*No “Laundry List”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143000" y="380880"/>
            <a:ext cx="6781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Demonstrating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Point of View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752480"/>
            <a:ext cx="7848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Attrib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Authorial point of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Reliability and accuracy of each source referen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Point out tone or intent of the document auth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Group the documents used by type of auth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1843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Attribution: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ite the author by name or position.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38240" y="36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02b00"/>
                </a:solidFill>
                <a:uFillTx/>
                <a:latin typeface="Comic Sans MS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9040" y="4307040"/>
            <a:ext cx="68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John Tyler, an English writer, said: “...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38240" y="5043600"/>
            <a:ext cx="79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A Dominican monk in Florence described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43000" y="38088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143000" y="3049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371600"/>
            <a:ext cx="86104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99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Authorial Point of View: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you show awareness that the gender, occupation, class, religion, nationality, political position or ethnic identity of the author could influence his/her vie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4337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02b00"/>
                </a:solidFill>
                <a:uFillTx/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829040"/>
            <a:ext cx="76960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Balthasar Rusow, a Lutheran pastor, was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naturally upset by the celebration of a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Saint’s Day since Lutherans don’t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venerate sain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143000" y="3049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447920"/>
            <a:ext cx="83818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99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Reliability and accuracy of each source referenced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you examine a source for its reliability and accuracy by questioning if the author of the doc. would be in a position to be accur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02b00"/>
                </a:solidFill>
                <a:uFillTx/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724280"/>
            <a:ext cx="76960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Niccolo Machiavelli’s book on the political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tactics of a Renaissance prince was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probably accurate as he observed the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behavior of Cesare Borgia for many yea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143000" y="3049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371600"/>
            <a:ext cx="85345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874"/>
              </a:spcBef>
              <a:buClr>
                <a:srgbClr val="0099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Tone or Intent of the Author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: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you examine the text of a doc. to determine its tone (satire, irony, indirect commentary, etc.) or the intent of the author. Esp. useful for visual do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962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02b00"/>
                </a:solidFill>
                <a:uFillTx/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419720"/>
            <a:ext cx="7696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In his great sculpture of David,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Michelangelo wanted to convey the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confidence, and even arrogance, of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Renaissance Florence at the peak of its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cultural influence in 16c Europ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49:27Z</dcterms:created>
  <dc:creator>Susan M. Pojer</dc:creator>
  <dc:description/>
  <dc:language>en-US</dc:language>
  <cp:lastModifiedBy>Susan Gregory</cp:lastModifiedBy>
  <cp:lastPrinted>2007-11-19T06:40:43Z</cp:lastPrinted>
  <dcterms:modified xsi:type="dcterms:W3CDTF">2007-11-19T06:40:50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34324162</vt:r8>
  </property>
  <property fmtid="{D5CDD505-2E9C-101B-9397-08002B2CF9AE}" pid="3" name="_AuthorEmail">
    <vt:lpwstr>pedagog@optonline.net</vt:lpwstr>
  </property>
  <property fmtid="{D5CDD505-2E9C-101B-9397-08002B2CF9AE}" pid="4" name="_AuthorEmailDisplayName">
    <vt:lpwstr>smp</vt:lpwstr>
  </property>
  <property fmtid="{D5CDD505-2E9C-101B-9397-08002B2CF9AE}" pid="5" name="_EmailSubject">
    <vt:lpwstr>DBQ ppt</vt:lpwstr>
  </property>
</Properties>
</file>